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55A-9436-4584-87F7-790F9E4D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5B0-8CF2-4F63-91C7-293EFCC0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86D-8A11-4782-93FC-6C86C83D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D1A-F5BE-4E96-8D6C-3C88304F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909-A37F-449D-92D3-4157A034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7315-B417-40AC-88D4-322A8EC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AE6-F7E0-4194-A7E3-8CA1C40B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214-3552-4200-B22F-825D57D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B2A-25B0-4492-8E39-F9FA74B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BD8-975C-40F0-B65C-5E68D40E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1C2-2E4E-4703-8BD9-FA2D2CE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992-271C-4259-9BA9-17CC0C7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641-9ED7-49A4-8415-376FACD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769-D4C4-4D71-8319-DDE38CC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CCC-1A23-40BE-A883-A3532786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4FC-D5E7-4D90-84C2-D44B712E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C520-1E6F-4F28-A47B-1E524ADA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089-163F-4445-9051-D46FEC0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62D-AB94-4845-9787-F590307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94A-27F1-402E-B3A5-6F9A9B6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AF1-B596-4C65-A48C-6473C75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E10-B7F1-4518-9114-4838F8E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09C-9CBB-40FD-A232-A04C645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17E-CEE7-4564-A804-8D2D67A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C4E7-2829-4ED2-8EEE-B0A9E4A0ADCD}" type="slidenum">
              <a:rPr b="0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352-6523-4EB9-A369-E326AB54AA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Geometry Terms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46440"/>
            <a:ext cx="91440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October 2007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gle – Angle - S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angles and a nonincluded side of one triangle are congruent to two angles and the corresponding nonincluded side of another triangle, the two triangles are congruent.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48000" y="2381400"/>
            <a:ext cx="381024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 Black"/>
              </a:rPr>
              <a:t>Right angle – Hypotenuse - Side</a:t>
            </a:r>
            <a:endParaRPr b="1" lang="en-US" sz="32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f two right triangles have a hypotenuse and a corresponding congruent leg then the triangles are congruent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29280" y="2463840"/>
            <a:ext cx="3848040" cy="231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Terms to remember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sosceles Triangl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Vertical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orresponding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Transversal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lternate Interior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upplementary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o-interior angle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685800"/>
            <a:ext cx="2467080" cy="1533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2467080" cy="15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2467080" cy="1533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IsoscelesTriangle"/>
          <p:cNvPicPr/>
          <p:nvPr/>
        </p:nvPicPr>
        <p:blipFill>
          <a:blip r:embed="rId5"/>
          <a:stretch/>
        </p:blipFill>
        <p:spPr>
          <a:xfrm>
            <a:off x="3581280" y="609480"/>
            <a:ext cx="1067040" cy="154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676520" y="2133720"/>
            <a:ext cx="1876320" cy="43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2133720"/>
            <a:ext cx="762120" cy="36648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0429920" cy="525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8348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88120" cy="1024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swer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1. a)SS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AS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S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6969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S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2892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oncentric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oncentric circles share the same cent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038480"/>
            <a:ext cx="380880" cy="381240"/>
          </a:xfrm>
          <a:prstGeom prst="ellipse">
            <a:avLst/>
          </a:prstGeom>
          <a:solidFill>
            <a:srgbClr val="90908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733920"/>
            <a:ext cx="990720" cy="99036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505320"/>
            <a:ext cx="16002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8240" y="3019320"/>
            <a:ext cx="2590920" cy="2438640"/>
          </a:xfrm>
          <a:prstGeom prst="ellipse">
            <a:avLst/>
          </a:prstGeom>
          <a:noFill/>
          <a:ln w="38160">
            <a:solidFill>
              <a:srgbClr val="66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onvers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onverse means the "if" and "then" parts of a sentence are switched. For example, "If two numbers are both even, then their sum is even" is a true statement. The converse would be "If the sum of two numbers is even, then the numbers are even," which is not a true statemen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Arial Black"/>
              </a:rPr>
              <a:t>Write the converse of the statement.</a:t>
            </a:r>
            <a:endParaRPr b="1" lang="en-US" sz="32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f two chords on a circle are equidistant from the centre of the circle, then they are congruen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f two chords of a circle are congruent, then they are equidistant from the centre of the circl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If a statement and its converse are both true, then they can be written using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, which means “if and only if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r example:  the preceding example can be written a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wo chords on a circle are equidistant from the centre of a circ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they are the same length.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Or:  “Two chords of a circle are the same lengt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they are equidistant from the centre of a circle.”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Properties of Chord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hords that are equidistant from the centre of a circle are equal in length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hords that are equal in length are equidistant from the centre of a circl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e perpendicular bisectors of two chords pass through the center of the circl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Proving triangles congruen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ide - Angle – Sid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sides and the included angle are congruent to two sides and the included angle of a second triangle, the two triangles are congruent. 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48000" y="26668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Side – Side - S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hree sides of one triangle are congruent to three sides of a second triangle, the two triangles are congruent.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248000" y="26668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Angle – Angle - Angl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f two angles and one  side of one triangle are congruent to two angles and the included side of another triangle, the triangles are congruent. 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38098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54:54Z</dcterms:created>
  <dc:creator>nbdoe</dc:creator>
  <dc:description/>
  <cp:keywords/>
  <dc:language>en-US</dc:language>
  <cp:lastModifiedBy>nbdoe</cp:lastModifiedBy>
  <dcterms:modified xsi:type="dcterms:W3CDTF">2007-10-05T10:46:22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